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0.png" ContentType="image/png"/>
  <Override PartName="/ppt/media/image6.jpeg" ContentType="image/jpeg"/>
  <Override PartName="/ppt/media/image16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6E8-A6F9-4A94-97BA-4979FB31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D08-2FD5-48C4-8DFD-F375E15D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ED5-A834-4C23-BEEF-15F56E93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5A8-D30E-4F7A-887B-A495DB6C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94CD-74F1-4B4D-8F48-7CF7CBB6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9962-910D-49C7-A55B-2ABF346C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8895-3D44-43CE-9D66-10577300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2648-1035-4C0E-8CEA-E13F3249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43E1-7A4A-4160-A667-377A3579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4ABB-0F02-496D-9553-3311EC80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5BA2-13DC-4DCC-B417-50029755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BE3-C445-4FC4-B075-9F8D2AD3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8A04-3F6C-46BE-BB99-49B15F8A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8A45-0F3E-42F0-9E50-EA0DEF0D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17F6-E1A0-40A8-83D3-B76EE0A3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14CB-3DC6-44EE-8007-9333671F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2080-19A4-4C17-B076-3B291EEF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88FF-41D1-497C-91BF-563040AB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CED-0014-4B9A-A6B7-29C0B06B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B15-5F5F-4134-A56B-B52F451D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B8F-1736-437D-8E6B-E316967F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695-9B00-4ACC-A909-2A7B61C2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26D-087C-4375-8053-B056514A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F96-249E-46C4-8015-A2AB12BC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56BD-802B-4BB1-B2D6-7A7BD7A06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4442-9E99-4753-9081-4264DAB65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TOAMNA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972200" cy="5400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29320" y="169560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imes New Roman"/>
              </a:rPr>
              <a:t>Este un anotim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8320" y="3068640"/>
            <a:ext cx="355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9900"/>
                </a:solidFill>
                <a:latin typeface="Times New Roman"/>
              </a:rPr>
              <a:t>Lunile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SEPTEMB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- OCTOMB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- NOIEMB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</a:rPr>
              <a:t>Bucuriile pe care ni le oferă toamna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561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Gustăm din roadele toamnei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174920" cy="266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816360" cy="266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4005360"/>
            <a:ext cx="4174920" cy="2303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68360" y="4005360"/>
            <a:ext cx="381636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imes New Roman"/>
              </a:rPr>
              <a:t>Admirăm culorile 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6640" y="836640"/>
            <a:ext cx="8010720" cy="54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leac</a:t>
            </a: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ă păsările călătoare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818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Începe şcoala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176720" cy="489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419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Poezii de toamnă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981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755800" cy="5248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2413080" cy="955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148360" y="4653000"/>
            <a:ext cx="2762280" cy="1476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796000" y="2924280"/>
            <a:ext cx="182880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A trecut intai o bo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e deasupra viilor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-a furat de prin pono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uful papadiilo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u acorduri lungi de li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-au raspuns fanete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Toate florile soptira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ntorcandu-si fete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Un salcam privi spre mun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Mandru ca o flamur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olzii frunzelor marun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-au zburlit pe-o ramur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Mai tarziu, o cotofa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Fara ocupati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A adus o veste-n goa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-a facut senzatie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ica-n munte, la povarna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lopii si rasuri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pun ca vine-un vant de iar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Rascolind paduri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-auzind din depart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Vocea lui tiranica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Toti ciulinii pe car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Fug cuprinsi de panica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Zvonul prin livezi coboar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olo jos, pe mlastin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-a-ntalnit un pui de cioa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-un batlan de basti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 din treacat ii arun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Alta veste strani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-au pornit-o peste lun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Frunzele-n bejani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ntr-o clipa, alarmat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es din santuri vrabii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apura pe lac se zb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Leganandu-si sabii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Un lastun, in frac, ap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us pe-un varf de tresti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a sa tie-o cuvanta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n aceasta chesti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Dar broscoii din rastoa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l insulta-n pau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 din papura-l provoa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u prelungi aplauz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Lisitele-ncep sa stri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a de mama focului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ocostarci, pe catalig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Vin la fata locului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Un tantar, nervos si foar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lab de constituti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In zadar vrea sa ia par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 el la discuti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and deodata un eret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olitai din naster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Peste balta si bosche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Vine-n recunoaste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u porunca de la centr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ontra vinovatului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Ca sa-l aresteze pentru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iguranta statului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De emotie, in surdina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Sub un snop de bozie,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O pastaie de sulci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00"/>
                </a:solidFill>
                <a:latin typeface="Times New Roman"/>
              </a:rPr>
              <a:t>A facut explozi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2664000" cy="3384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04000" y="76500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00"/>
                </a:solidFill>
                <a:latin typeface="Times New Roman"/>
              </a:rPr>
              <a:t>Rapsodii de toamnă,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 George Topîrcea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imes New Roman"/>
              </a:rPr>
              <a:t>O toamnă minunată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47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6:28:46Z</dcterms:created>
  <dc:creator>cursant</dc:creator>
  <dc:description/>
  <dc:language>en-US</dc:language>
  <cp:lastModifiedBy>cursant</cp:lastModifiedBy>
  <dcterms:modified xsi:type="dcterms:W3CDTF">2010-09-02T08:20:15Z</dcterms:modified>
  <cp:revision>6</cp:revision>
  <dc:subject/>
  <dc:title>TOAMNA</dc:title>
</cp:coreProperties>
</file>